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F01-FCD1-403A-8351-1BA68F37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010-72BB-4601-8B81-D04CD3AE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AE9-3072-4680-936C-191866A5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C9A-5D35-418A-A9E8-C1E3AF7D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3485-5E69-4F5F-8C31-18D4D2DB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5C80-19AF-4360-8299-F8681350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AD96-47B0-4396-A4AA-28CA7D3B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9395-F451-4681-9DB5-991AD1A0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960B-79C3-4E78-95E1-4B15961F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86B9-23E9-479E-A932-3E85D60C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48FF-6AE6-4302-B72B-383FB0CD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5AE-79FC-4B8D-9940-C908EB94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1610-0950-4409-875C-9CE339A3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F238-5D36-4C62-A31C-2AC88682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07C2-1851-4FEF-8759-D707EF34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9EF3-2835-4A3C-9C4F-B7113948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1C4D-D026-411A-8BF0-4A1D7951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277-A8BC-4DB0-905E-3C002674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2BF-30A0-4441-A4F1-FC5EAF7B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D88C-2536-46DA-9D69-0CF9FF01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F0AF-A8CC-4D7A-AF9A-635680A9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06A-EE54-4F64-8110-FD38503D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4F0-493C-48E9-8787-89979A28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49F5-11B5-48CC-80ED-754311D1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0639-E1B6-46A5-A0BE-E3E91D6F9809}" type="slidenum">
              <a:rPr b="0" lang="pl-P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C4C9-F1F7-464C-A5B8-BC3732C47E8D}" type="slidenum">
              <a:rPr b="0" lang="pl-P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d.loc.gov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fast.oclc.org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oc.gov/catdir/calhoun-report-final.pdf" TargetMode="External"/><Relationship Id="rId2" Type="http://schemas.openxmlformats.org/officeDocument/2006/relationships/hyperlink" Target="http://www.loc.gov/catdir/cpso/pre_vs_post.pdf" TargetMode="External"/><Relationship Id="rId3" Type="http://schemas.openxmlformats.org/officeDocument/2006/relationships/hyperlink" Target="http://www.loc.gov/bibliographic-future/news/lcwg-ontherecord-jan08-final.pdf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yskusja nad przyszłością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ibrary of Congress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ubject Headings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nda Klencz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blioteka Narodow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XI ogólnopolskie warsztaty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Komisji Opracowania Rzeczowego Zbiorów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przy ZG Stowarzyszenia Bibliotekarzy Polskich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Warszawa, 3-5 czerwca 2009 r.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ugerowane kierunki rozwoju – </a:t>
            </a:r>
            <a:br>
              <a:rPr sz="28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utrzymanie prekordynacji, ale:</a:t>
            </a:r>
            <a:br>
              <a:rPr sz="3200"/>
            </a:b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ktualizacja i weryfikacja terminów i ich relacji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roszczenie i uelastycznienie reguł  gramatyki (np. rezygnacja z określników formalnych na rzecz zapisu ich w osobnym polu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aptację do wyszukiwania fasetowego (rozwój projektu FAST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dostępnienie zasobu w formacie stosowanym w środowisku sieciowym - SKOS (Simple Knowledge Organization System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badanie możliwości włączenia funkcji społecznego tagowan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zupełnienia opisów w LCSH o punkty dostępu pochodzące z innych języków informacyjno-wyszukiwawczych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Nowy serwis: Authorities and Vocabularies 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id.loc.gov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wersja całości słownictwa LCSH na format SKOS/RD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asób będzie równolegle nadal prowadzony i udostępniany w MARC2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celowo prezentacja innych zasobó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saurus of Graphic Material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RC Geographic Area Cod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RC Language Cod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RC Relator Cod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2124000" y="189000"/>
            <a:ext cx="1219176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Tahoma"/>
              </a:rPr>
              <a:t>FAST 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(Faceted Application of Subject Terminology)</a:t>
            </a:r>
            <a:br>
              <a:rPr sz="2400"/>
            </a:b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fast.oclc.org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18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nowe narzędzie opisu rzeczowego, zwłaszcza zasobów sieciowy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prosty i łatwy do stosowania, intuicyj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wykorzystujący bogaty zasób słownictwa LCSH, ale radykalnie upraszczający jego gramatyk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postkoordynowany, z elementami prekoordynacj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rm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i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w jednej faseci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pre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koordynac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rm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iny w różnych fasetach – postkoordynac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kompatybilny z MARC21 (dodano do formatu pola X4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utrzymywany jako kartoteka wzorcow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możliwość prostego zastosowania w schematach metadanych np. Dublin Co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lement prekoordynacj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W jednej fasecie może powstać łańcuch złożony z elementów przypisanych do tej fasety, n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650 |a + 6xx |x + 6xx |x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mericans—Travel—Historiograph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sians—Legal status, laws, etc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rain—Cancer—Patients—Family relationship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651 |a + 6xx |y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alifornia—San Francisco—Chinatow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ichigan—Lake Charlevoix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hio—Columbu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CSH jako źródło słownictwa schematu FAST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Obecnie 6 faset, docelowo 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ff"/>
                </a:solidFill>
                <a:latin typeface="Tahoma"/>
              </a:rPr>
              <a:t>Topical  (650)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650 |a ; 6xx |x ; 6xx |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ff"/>
                </a:solidFill>
                <a:latin typeface="Tahoma"/>
              </a:rPr>
              <a:t>Chronological (648)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6xx |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ff"/>
                </a:solidFill>
                <a:latin typeface="Tahoma"/>
              </a:rPr>
              <a:t>Form (655)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6xx |v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ff"/>
                </a:solidFill>
                <a:latin typeface="Tahoma"/>
              </a:rPr>
              <a:t>Geographic (651)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651 |a ; 6xx |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ff"/>
                </a:solidFill>
                <a:latin typeface="Tahoma"/>
              </a:rPr>
              <a:t>Personal Names (600)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ff"/>
                </a:solidFill>
                <a:latin typeface="Tahoma"/>
              </a:rPr>
              <a:t>Corporate Names (610)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610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Conference/Meeting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Uniform Tit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ST a Dublin Core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LCSH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650 0 School psychologists |z Italy |z Rome |v congresse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362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F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Topical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School      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sychologi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Geographic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Italy |z Rom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Form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ngresse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2920" y="236232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Dublin C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Subject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chool psychologi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Coverage.spatial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taly -Ro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Type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ngress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ibrary of Congress Subject Heading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nad stuletnia tradycj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worzony dla katalogów kartkowy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ęzyk prekoordynowany - zasady gramatyki pozycyjnej szczegółowo określa czterotomowy podręcznik  „Subject Cataloging Manual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nad 300 000 haseł wzorcowych, ok. 9 000 000 haseł przedmiotowych rozwiniętych w katalogu LC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osowany w katalogach i bazach bibliograficznych w Stanach Zjednoczonych, krajach anglojęzyczny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 24 bibliografiach narodowych (gł. krajów anglojęzycznych: Wielka Brytania, Irlandia, Australia, kraje Afryki i Azji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łumaczony (adaptowany) m.in. na francuski, hiszpański, szwedzki, czeski, łotewsk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pływ na inne jhp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ST a Dublin Core</a:t>
            </a:r>
            <a:br>
              <a:rPr sz="3200"/>
            </a:b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LCSH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651 0 United States |x Civilization |x Italian influences |xHistory |y 20th century |v source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280" y="236232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F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Geographic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ited     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t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Topical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ivilization |x Italian influences |x History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Period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1900-1999      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Form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ourc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0" y="2362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Dublin C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Coverage.spatial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ited St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Subject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ivilization -  Italian influences – Hist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Period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1900-199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Type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ourc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979640" y="1341360"/>
          <a:ext cx="50814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341360"/>
                    <a:ext cx="50814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CSH </a:t>
            </a:r>
            <a:r>
              <a:rPr b="0" lang="en-US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FAS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650 0 Human rights $z Korea (North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650 0 Refugees $z Korea (North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650 0 Koreans $z Chin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651 0 United States $x Foreign relations $z Korea (North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651 0 Korea (North) $x Foreign relations $z United Stat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650 7 Human rights. $2 fa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650 7 Refugees. $2 fa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650 7 Koreans. $2 fa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650 7 Foreign relations. $2 fa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651 7 Korea (North) $2 fa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651 7 United States. $2 fa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651 7 China. $2 fast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powanie LCSH z symbolami DDC</a:t>
            </a: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C Subject Head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ess denial (Military scie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hābīsh (Arab trib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alusia (Spain)—Civilization—Germanic influe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DC 22 Nu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55.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5—9275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46.8, 303.48246804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Jakie wnioski dla nas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przegląd słownictwa, relacji, odsyłacz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aktualizacja,  preferencja dla wyrażeń bardziej przydatnych do wyszukiwania przez słowo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uproszczenie gramatyki? fasetyzacj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elastyczność w budowie haseł rozwiniętych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określniki formalne a terminy indeksowe rodzaj/gatun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chronologia i zasięg terytorialny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rewizja decyzji o głębokości i szerokości indeksowani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badanie użytkowników – bibliotekarzy opracowujących przedmiotow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badanie użytkowników końcowych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Scylla, Charybda, syreny… </a:t>
            </a:r>
            <a:br>
              <a:rPr sz="2600"/>
            </a:b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Czy przetrwamy?..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762440" cy="3772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anda Klencz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w.klenczon@bn.org.p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Library of Congress Subject Headings, 31st edition (2008-2009)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" descr="LCSH-24"/>
          <p:cNvPicPr/>
          <p:nvPr/>
        </p:nvPicPr>
        <p:blipFill>
          <a:blip r:embed="rId1"/>
          <a:stretch/>
        </p:blipFill>
        <p:spPr>
          <a:xfrm>
            <a:off x="2771640" y="4221000"/>
            <a:ext cx="2743200" cy="2060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9080" y="2204640"/>
            <a:ext cx="838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ver 308,000 total headings and references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ew in this edition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7,000 new and 16,000 changed subject headings made since January 200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Dyskusja - podstawowe dokumenty źródłow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hanging Nature of the Catalog and its Integration with Other Discovery Tools, prepared for the Library of Congress  by Karen Calhoun, 2006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tzw. Raport Calhoun)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loc.gov/catdir/calhoun-report-final.pd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brary of Congress Subject Headings Pre- vs. Post-Coordination and Related Issues, 2007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loc.gov/catdir/cpso/pre_vs_post.pdf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the record”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ort of  The Library of Congress Working Group on the Future of Bibliographic Control, 2008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loc.gov/bibliographic-future/news/lcwg-ontherecord-jan08-final.pdf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LC Staff Survey on Subject Cataloging, 2006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 badaniu udział wzięło ok. 150 „indeksatorów” LC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(ok. 50% zespołu)</a:t>
            </a:r>
            <a:br>
              <a:rPr sz="24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dowa rozwiniętych haseł przedmiotowych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rawia trudności (56%)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est trudna lub bardzo trudna (15%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udności w stosowaniu określnikó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asady stosowania są niejasne – 24%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osowanie określników swobodnych jest trudne - 38%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dowa określników geograficznych jest trudna – 2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minologia jest przestarzała lub nieprecyzyjna – 26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kość hase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ie jest wystarczająca – 41%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est zła – 14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Diagnoz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łownictwo częściowo zdezaktualizowane, konserwatywne (nowa terminologia uwzględniana ze znacznym opóźnieniem), „amerykocentryczny” punkt widzen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epełne, niekonsekwentne relacje między terminami  (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brak wielu niezbędnych odsyłaczy całkowitych i orientacyjnych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byt skomplikowana gramatyk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byt wiele wyjątków i odstępstw od ogólnych regu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sła mało zrozumiałe dla użytkowników (zarówno końcowych, jak i bibliotekarzy nie będących specjalistami indeksowan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eksowanie bardzo czasochłonne i kosztowne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Browsing” a „searching”?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ak danych z Library of Cong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dania logów transakcyjnych i zachowań informacyjnych użytkowników Oklahoma Univesity Librar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edynie 4,6% wyszukiwań realizowano za pośrednictwem indeksu przedmiotowego, podczas gdy 64,8% wyszukiwano przez słow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isko 50% wyszukiwań przez hasło przedmiotowe było bezowocnych (0 trafień), 10% zapytań dało wynik ponad 500 pozycj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żytkownicy, którzy nie są zadowoleni z efektów wyszukiwania nie próbują przeglądać indeksów ani nie korzystają z sugestii, np.linków czy odsyłaczy, ale zadają następne pytanie w trybie „searching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Prekoordynacja czy postkoordynacja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 jednoznaczne poję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 kontekst poję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 relacje między pojęciam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 wyrażenie złożonych temató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 przeszukiwanie zasobu zarówno w opcji „browsing” jak i „searching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hasła trudne dla katalogerów i niezrozumiałe dla użytkownikó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konieczność długiego i permanentnego szkolenia personel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pracochłonna i kosztow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niejednoznaczne poję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brak kontekst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brak relacj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trudność wyrażenia złożonych temató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przeszukiwanie zasobu tylko w opcji „searching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 łatwość posługiwania się zarówno przez użytkowników, jak i katalogeró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 opracowanie szybkie i tańsz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mniejsza precyzja, więcej wyników nierelewantny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Użycie słów zaczerpniętych z haseł przedmiotowych?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yt.: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Evitas Geheimnis : Die Europareise der Evita Peron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273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600 10 Peron, Eva, ‡d 1919-1952 ‡x Travel ‡z Switzerla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600 10 Peron, Juan Domingo, ‡d 1895-1974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651 _0 Argentina ‡x Ethnic relat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650 _0 Voyages and travel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651 _0 Argentina ‡x Foreign relations ‡z Switzerla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651 _0 Switzerland ‡x Foreign relations ‡z Argenti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650 _0 Immigrants ‡z Argentina ‡x History ‡y 20th centur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650 _0 Bank accounts ‡z Switzerla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650 _0 Antisemitism ‡z Europe ‡x Histor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651 _0 Argentina ‡x Emigration and immigr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651 _0 Germany ‡x Emigration and immigr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650 _0 War criminals ‡z Germany ‡x History ‡y 20th centur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650 _0 War criminals ‡z Argentina ‡x History ‡y 20th centur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22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650 _0 Nazis ‡z Argentina ‡x History.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2920" y="198864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1895-1974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1919-1952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20th centur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Antisemitism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Argenti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Bank accoun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Emigration and immigra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Ethnic rela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Europ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Foreign rela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German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Histor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Immigran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Nazi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Peron, Ev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Peron, Juan Domingo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Switzerl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Travel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Voyages and travel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War criminal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2 432 902 008 176 640 000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możliwych kombinacji terminów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16:03:23Z</dcterms:created>
  <dc:creator>Klenczon</dc:creator>
  <dc:description/>
  <dc:language>en-US</dc:language>
  <cp:lastModifiedBy>a.borowska</cp:lastModifiedBy>
  <dcterms:modified xsi:type="dcterms:W3CDTF">2009-06-01T09:53:08Z</dcterms:modified>
  <cp:revision>32</cp:revision>
  <dc:subject/>
  <dc:title>Dyskusja nad przyszłością  Library of Congress  Subject Headings </dc:title>
</cp:coreProperties>
</file>